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8D1C-4DFD-496B-889C-480195A9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A4F5-A33E-4125-B11F-D5E78F43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CF01-A4EE-49ED-8B46-A0221C80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B001C-CC0D-48BE-BE57-FC3D923C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9040-7CDB-46C3-80BF-8CDA1693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6DED-98D2-4E04-A542-6503E027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30B3-BA41-49CE-A608-D820223A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6F26-CDF6-4665-BEA4-6C4C2391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2C86-0E6E-4666-9D8C-9546B759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499A-C73A-432A-9A41-8D02E43A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7EA7-5468-4DE5-9105-4500B808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EC95-2C7E-4C05-A00E-ED3DE02E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808E-4B39-4514-B844-F07E30B2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4517-4624-4F6E-BE3D-2BB69CDE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C71F-D5D3-420D-AEDF-737A8CDF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530E-02AF-49B2-A989-12D0624C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E311-D9D9-4CC9-B0EB-FA876609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69F1-574E-4D81-BBE1-87579F66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A9D8-5D07-45B9-A135-D00EC4D1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4F84-FBA7-438D-B05E-50D0DB26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86C6-3239-4242-B6B4-C3F3A6DE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75B8-E4D2-4A3F-8B74-476489E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73D0-BB7B-4A70-B078-DA0C91D1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C2A6-E999-4ECF-970B-BCA92A0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A625-E5B5-448F-8221-BF69193EC3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50AC-9119-4D46-8057-EAF6D58989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4465440" cy="2158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132000" y="2060640"/>
            <a:ext cx="4608720" cy="2303280"/>
          </a:xfrm>
          <a:prstGeom prst="rect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596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871380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8000" y="836640"/>
            <a:ext cx="633744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PUNTOS OBJETO DE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INFORME SOBRE LA ORGANIZACIÓN Y SU 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ESTRUC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ESTUDIO DEL MANUAL DE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ORGANI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ANÁLISIS DEL ENTO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ORGANIGRA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MAPA DE 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ANALISIS DE LA TECNOLO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ANÁLISIS DE LA ESTRATE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ANÁLISIS DEL TIPO DE CONFIGURACIÓN 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ORGANIZ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413000"/>
            <a:ext cx="576360" cy="358560"/>
          </a:xfrm>
          <a:prstGeom prst="rightArrow">
            <a:avLst>
              <a:gd name="adj1" fmla="val 50000"/>
              <a:gd name="adj2" fmla="val 4018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84464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234936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3284640"/>
            <a:ext cx="576360" cy="358560"/>
          </a:xfrm>
          <a:prstGeom prst="rightArrow">
            <a:avLst>
              <a:gd name="adj1" fmla="val 50000"/>
              <a:gd name="adj2" fmla="val 4018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285264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371628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14972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501336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4581360"/>
            <a:ext cx="576360" cy="358920"/>
          </a:xfrm>
          <a:prstGeom prst="rightArrow">
            <a:avLst>
              <a:gd name="adj1" fmla="val 50000"/>
              <a:gd name="adj2" fmla="val 40145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47640" y="54936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INFORME SOBRE LA ORGANIZACIÓN Y SU ESTRUC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2349360"/>
            <a:ext cx="46083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erlin Sans FB"/>
              </a:rPr>
              <a:t>¿Qué es el Grupo Magt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erlin Sans FB"/>
              </a:rPr>
              <a:t>¿Qué es Magtel Sistema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erlin Sans FB"/>
              </a:rPr>
              <a:t>¿Cuáles son sus áreas de negoc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2492280"/>
            <a:ext cx="288720" cy="287280"/>
          </a:xfrm>
          <a:prstGeom prst="donut">
            <a:avLst>
              <a:gd name="adj" fmla="val 250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284640"/>
            <a:ext cx="288720" cy="287280"/>
          </a:xfrm>
          <a:prstGeom prst="donut">
            <a:avLst>
              <a:gd name="adj" fmla="val 250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4148280"/>
            <a:ext cx="288720" cy="287280"/>
          </a:xfrm>
          <a:prstGeom prst="donut">
            <a:avLst>
              <a:gd name="adj" fmla="val 25000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DEFINICIÓN DE ORGAN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421000"/>
            <a:ext cx="67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“ </a:t>
            </a: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Una organización es un sistema social creado para el logro de una finalidad que combina recursos y valores mediante una estructura y unos procesos intraorganizativos e interorganizativo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Berlin Sans FB"/>
              </a:rPr>
              <a:t>A.C. MORALES “Análisis y Diseño de sistemas organizativos</a:t>
            </a: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9080" y="97776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erlin Sans FB"/>
              </a:rPr>
              <a:t>¿ Qué es el Grupo Magt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13372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</a:t>
            </a:r>
            <a:r>
              <a:rPr b="0" lang="es-ES" sz="1800" spc="-1" strike="noStrike">
                <a:solidFill>
                  <a:srgbClr val="ffffff"/>
                </a:solidFill>
                <a:latin typeface="Berlin Sans FB"/>
              </a:rPr>
              <a:t> es hoy  un Grupo empresarial que aplica la tecnología en el diseño, construcción y mantenimiento de proyectos en el sector de las telecomunicaciones, Energía, Infraestructuras e Indust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</a:t>
            </a:r>
            <a:r>
              <a:rPr b="0" lang="es-ES" sz="1800" spc="-1" strike="noStrike">
                <a:solidFill>
                  <a:srgbClr val="ffffff"/>
                </a:solidFill>
                <a:latin typeface="Berlin Sans FB"/>
              </a:rPr>
              <a:t> se compone principalmente de seis empresas especializadas como resultado de un importante desarrollo de sus áreas de negoci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Re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Renov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Siste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Indust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Aguas</a:t>
            </a:r>
            <a:r>
              <a:rPr b="0" lang="es-ES" sz="1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rlin Sans FB"/>
              </a:rPr>
              <a:t>MAGTEL I+D+i</a:t>
            </a:r>
            <a:r>
              <a:rPr b="0" lang="es-ES" sz="1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9367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6769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Este crecimiento del Grupo es fruto de su espíritu innovador, de una especial vocación por la calidad y la atención al cliente y de un continuo esfuerzo de superación de todas las personas que integran la compañía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4829040" cy="321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64000" y="2060640"/>
            <a:ext cx="378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Estos principios constituyen desde nuestra creación en 1989, la cultura corporativa de  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</a:rPr>
              <a:t>MAGTEL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  que responde a un modelo empresarial que apuesta por el desarrollo</a:t>
            </a:r>
            <a:r>
              <a:rPr b="1" lang="en-US" sz="1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erlin Sans FB"/>
              </a:rPr>
              <a:t>sostenible, por la formación permanente de sus profesionales, por la constante innovación tecnológica y por la incorporación de nuevas líneas de negocio, anticipándose como siempre eficazmente a las demandas de nuestros clientes y del entorno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48360" y="2708280"/>
            <a:ext cx="1008360" cy="2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ffffff"/>
                </a:solidFill>
                <a:latin typeface="Berlin Sans FB"/>
              </a:rPr>
              <a:t>¿ Qué es Magtel Sistema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2133720"/>
            <a:ext cx="691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erlin Sans FB"/>
              </a:rPr>
              <a:t>MAGTEL Sistemas</a:t>
            </a: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 forma parte del grupo de empresas </a:t>
            </a:r>
            <a:r>
              <a:rPr b="1" lang="es-ES_tradnl" sz="1800" spc="-1" strike="noStrike">
                <a:solidFill>
                  <a:srgbClr val="ffffff"/>
                </a:solidFill>
                <a:latin typeface="Berlin Sans FB"/>
              </a:rPr>
              <a:t>MAGTEL</a:t>
            </a: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. Fue constituida en el año 2007 con la misión de prestar servicios avanzados a empresas que permitan aumentar su competitiv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erlin Sans FB"/>
              </a:rPr>
              <a:t>MAGTEL Sistemas</a:t>
            </a:r>
            <a:r>
              <a:rPr b="0" lang="es-ES_tradnl" sz="1800" spc="-1" strike="noStrike">
                <a:solidFill>
                  <a:srgbClr val="ffffff"/>
                </a:solidFill>
                <a:latin typeface="Berlin Sans FB"/>
              </a:rPr>
              <a:t> sólo concibe el crecimiento propio como resultado del crecimiento de sus clientes. Por ello, su principal objetivo es conseguir su confianza y ser percibidos como verdaderos compañeros. Esta colaboración es un pilar básico para ellos, así como trabajar sin olvidar nuestros valores corpora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Berlin Sans FB"/>
              </a:rPr>
              <a:t>¿ Cuáles son sus áreas de negocio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962680" cy="43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6983280" cy="508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08:29Z</dcterms:created>
  <dc:creator>MILAR MASOL</dc:creator>
  <dc:description/>
  <dc:language>en-US</dc:language>
  <cp:lastModifiedBy>MILAR MASOL</cp:lastModifiedBy>
  <dcterms:modified xsi:type="dcterms:W3CDTF">2009-04-14T15:55:05Z</dcterms:modified>
  <cp:revision>7</cp:revision>
  <dc:subject/>
  <dc:title>Diapositiva 1</dc:title>
</cp:coreProperties>
</file>